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2A84-CB83-4C82-ADC3-8DABDE93A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E8EE-0B9E-4EA0-83F6-3B9287899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CD82-9F79-40A7-ACA4-0F3B73445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2881-E059-4AB8-B9BA-3553C7776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402F9-60C9-4E65-B9E5-0710BBDC5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2C322-6101-4110-81F3-3A1165836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6D8E0-81D0-4304-B413-073A2CFE5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FF9B1-86B9-449D-B9CF-4F6FED228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58702-E8C0-4D25-BA0E-655C70934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09887-134F-4062-80F9-59B644E64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EBB6B-35D2-4C47-BF05-DF86983DC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F4D5-074B-433F-903E-6F9EB3BC6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02A1E-DBBE-4451-85A1-164104AC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1B82C-A169-4046-B6F1-B4CB3AA71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59F4D-4550-457A-958D-4545A60D5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17DD0-C4D5-4D97-9916-692620B14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24552-A509-461E-918B-C11A89A33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1CAB-277A-497C-A412-C380E36C8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1E40-7028-4064-8359-36817C95E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4586-BB4D-413F-B178-9EA0CD426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840E-B7E4-4FC3-9F5C-7422F4161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6C5B-DA1C-4FE7-B77D-AEB2892C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11D8-89D6-49E8-AABC-187D90A85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832E-7980-4BF2-AFD0-E37C8C93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5e5e8e"/>
                </a:gs>
                <a:gs pos="100000">
                  <a:srgbClr val="58588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5e5e8e"/>
                </a:gs>
                <a:gs pos="100000">
                  <a:srgbClr val="7474a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d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151C3-A483-4B82-BD1B-A156996888D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5e5e8e"/>
                </a:gs>
                <a:gs pos="100000">
                  <a:srgbClr val="4f4f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5e5e8e"/>
                </a:gs>
                <a:gs pos="100000">
                  <a:srgbClr val="7474a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C18A4-56B6-4FD7-A9D1-C6746191FD5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1d1df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d1d1d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42920" y="1197000"/>
            <a:ext cx="77724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1d1df"/>
                </a:solidFill>
                <a:latin typeface="Times New Roman"/>
              </a:rPr>
              <a:t>Язык саха и культура в образовательном процессе школ г. Якутска</a:t>
            </a:r>
            <a:endParaRPr b="0" lang="en-US" sz="4800" spc="-1" strike="noStrike">
              <a:solidFill>
                <a:srgbClr val="d1d1d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1d1df"/>
                </a:solidFill>
                <a:latin typeface="Times New Roman"/>
              </a:rPr>
              <a:t>4. Язык саха и культура в формировании поликультурной компетентности у учащихся</a:t>
            </a:r>
            <a:endParaRPr b="0" lang="en-US" sz="32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Общешкольные мероприяти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лимпиады по якутскому языку и литературе. Фестивали, конкурсы исполнителей народных песен, танцев коренных народов республики, конкурсы исполнителей игры на хомусе. Общешкольные мероприятия, посвященные юбилейным датам якутских писателей. Выставки книг, библиотечные уроки, конкурсы иллюстраций. Беседы, экскурсии в музеях города. Коллективные посещения саха-театра.  (Прилагается фото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1d1df"/>
                </a:solidFill>
                <a:latin typeface="Times New Roman"/>
              </a:rPr>
              <a:t>Требования к оформлению</a:t>
            </a:r>
            <a:endParaRPr b="0" lang="en-US" sz="32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ъем: не более 2-х листов А4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Шрифт: 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нтервал: 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1d1df"/>
                </a:solidFill>
                <a:latin typeface="Tahoma"/>
              </a:rPr>
              <a:t>Структура информационного письма.</a:t>
            </a:r>
            <a:endParaRPr b="0" lang="en-US" sz="32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Введе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Краткие сведения о школ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Формирование этнокультурной компетентности у учащихся сах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Язык саха и культура в формировании поликультурной компетентности у учащихся русских классов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1d1df"/>
                </a:solidFill>
                <a:latin typeface="Tahoma"/>
              </a:rPr>
              <a:t>1. Введение.</a:t>
            </a:r>
            <a:br>
              <a:rPr sz="4000"/>
            </a:br>
            <a:endParaRPr b="0" lang="en-US" sz="40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Полное название школы, с указанием направлен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Фамилия,  имя и отчество директора школы с регалиями. (Прилагается фото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Вступительное слово о месте и значении поликультурного образования в учебно-воспитательном процессе школы. (Прилагается фото школы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1d1df"/>
                </a:solidFill>
                <a:latin typeface="Tahoma"/>
              </a:rPr>
              <a:t>2. Краткие сведения о школе.</a:t>
            </a:r>
            <a:r>
              <a:rPr b="0" lang="en-US" sz="4000" spc="-1" strike="noStrike">
                <a:solidFill>
                  <a:srgbClr val="d1d1d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Год открытия школы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Год открытия якутских классов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Количество якутских классов на сегодня.     Количество учащихся, обучающихся в ни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Количество якутских классов, изучающих родной язык и литературу как предмет. Количество учащихся, обучающихся в ни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Количество русских классов, изучающих якутский язык как государственный. Количество учащихся, обучающихся в ни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Количество русских классов, изучающих культуру народов Республики Саха (Якутия). Количество учащихся, обучающихся в ни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Количество якутских гимназических классов. Количество учащихся, обучающихся в ни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Количество якутских профильных классов. Количество учащихся, обучающихся в ни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d1df"/>
                </a:solidFill>
                <a:latin typeface="Times New Roman"/>
              </a:rPr>
              <a:t>3. Формирование этнокультурной компетентности у учащихся саха.</a:t>
            </a:r>
            <a:endParaRPr b="0" lang="en-US" sz="36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Урочная деятельнос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Краткие сведения о первых якутских классах; об учителях, работавших в ни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Организация урочной деятельности, развивающей этнокультурные компетенции у учащихся саха в условиях поликультурной среды. (Гуманитарные предметы с углубленным изучением якутского языка и литературы, профильные классы, якутские гимназические классы, результаты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d1df"/>
                </a:solidFill>
                <a:latin typeface="Times New Roman"/>
              </a:rPr>
              <a:t>3. Формирование этнокультурной компетентности у учащихся саха.</a:t>
            </a:r>
            <a:endParaRPr b="0" lang="en-US" sz="36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Внеурочная деятельность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Формирование этнокультурных компетенций у учащихся саха, развитие их  творческого потенциала во внеурочной деятельности: студии, кружки, ансамбли якутских танцев, народных песен; ансамбли хомусистов; театральные студии; литературные кружки; театры мод. (Прилагается фото). Клубы юных исследователей. (Прилагается фото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d1df"/>
                </a:solidFill>
                <a:latin typeface="Times New Roman"/>
              </a:rPr>
              <a:t>3. Формирование этнокультурной компетентности у учащихся саха.</a:t>
            </a:r>
            <a:endParaRPr b="0" lang="en-US" sz="36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Общешкольные мероприяти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радиционные общешкольные мероприятия с этнокультурной направленностью: Декады, недели якутского языка и литературы; дни олонхо, хомуса; олимпиады по якутскому языку и литературе; выставки книг; концерты, фестивали; конкурсы певцов народных песен, лучших исполнителей на народном инструменте хомус, чтецов; конкурсы сочинений, иллюстраций; встречи с якутскими писателями. Общешкольные мероприятия, посвященные юбилейным датам якутских писателей. Библиотечные уроки; беседы, экскурсии в музеях города. Коллективные посещения саха-театра.   (Прилагается фото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1d1df"/>
                </a:solidFill>
                <a:latin typeface="Times New Roman"/>
              </a:rPr>
              <a:t>4. Язык саха и культура в формировании поликультурной компетентности у учащихся</a:t>
            </a:r>
            <a:r>
              <a:rPr b="0" lang="ru-RU" sz="4000" spc="-1" strike="noStrike">
                <a:solidFill>
                  <a:srgbClr val="d1d1d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Учебная деятельность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подавание предметов «Культура народов Республики Саха (Якутия)»   и  «Язык саха как государственный язык» в  классах с русским языком обучения. Коротко об учителях, творчески преподающих данные предмет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1d1df"/>
                </a:solidFill>
                <a:latin typeface="Times New Roman"/>
              </a:rPr>
              <a:t>4. Язык саха и культура в формировании поликультурной компетентности у учащихся</a:t>
            </a:r>
            <a:endParaRPr b="0" lang="en-US" sz="32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Внеурочная деятельность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ружки, студии, ансамбли якутских песен, танцев, игры на национальном музыкальном инструменте – хомус, театры мод национальной одежды коренных народов Якутии, где занимаются дети не якутской национальности. (Прилагается фото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4T17:18:34Z</dcterms:created>
  <dc:creator>Ирина</dc:creator>
  <dc:description/>
  <dc:language>en-US</dc:language>
  <cp:lastModifiedBy>Ирина</cp:lastModifiedBy>
  <dcterms:modified xsi:type="dcterms:W3CDTF">2007-01-04T17:26:59Z</dcterms:modified>
  <cp:revision>2</cp:revision>
  <dc:subject/>
  <dc:title>Язык саха и культура в образовательном процессе общеобразовательных школ г. Якутска</dc:title>
</cp:coreProperties>
</file>